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6A62-89F1-4D65-BE64-DBBED65C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D97-00E3-4C35-80AA-96222F2D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093D-45C1-4448-9BAF-2D407AE8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E88-E0E2-4782-AA70-B588F9A2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FC21-0914-460A-8ACE-397239D0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1FFA-7164-4735-B04C-E18B179E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F057-C343-4DD4-BC9E-C83858FE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A320-433A-4016-8140-1C9CAD0B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CF7F-CA93-48F2-B89D-7629DF9F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7FA8-78F0-48C6-8137-8C285777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8471-568D-474C-A03D-8EAFB156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3AD-990B-4490-8408-B1E2B43B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DDA6-5732-43F9-ACD1-D0364740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4C5C-D4C1-48CE-941D-3DDB25FF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BD57-78F7-49B8-903D-6395C4F6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58CF-3C9B-40E8-B582-6DE84A89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44E0-C2F8-4548-9BC1-7EDCC0A2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BE6F8-7423-4B3C-BE2E-EA3A067D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906ED-7B23-4033-AF8B-23DDD0A5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22986-4547-41FA-8598-00F8614F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5457D-F7EA-45AA-BE23-7C99B046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4327A-FC91-4C78-82C2-20F41601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9277-50CF-44BF-A5C0-53BFB3E1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71497-6435-4E64-A2F4-927E3F68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D61A1-7688-4D92-81DE-46A86942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E1287-52AF-4E89-8594-618413D7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6C43D-EA93-4E4C-988F-EBF39E3E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38DE4-5376-4AE6-BDD6-DAA24B5B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8AAC4-7475-4942-864D-DE8CCDD0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19A0C-1368-4C83-B49B-CC617721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D611E-A7DF-4C47-A062-3C3C4DE2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FD324-AD3D-487A-A225-EB6484D9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28CF2-B151-4C7E-9F5D-74D2A32E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EBF-F61C-4127-9D82-0AA0E5DB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AD896-8012-4115-8145-B151B24D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6F5ED-3E73-4E70-B9E5-8E30D024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0CFFA-DCCE-4A51-8C8B-58862C57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96573-FC6C-438F-A7F3-CCA68C4F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5E113-6528-468B-BBD9-48033ED4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D2B1D-FBAF-413A-B0BD-1C97A67B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AF34D-79A0-446B-B284-9932AE4D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D8EC5-9E2E-444F-9C65-A92A25FE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CFE9B-BE10-4BF8-AC61-8FD18345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26135-BB60-444D-881B-A54743AC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C5E-E6C1-4B4A-B2B0-A300A29B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21AB4-F4B8-40CE-A410-D60A1986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96578-F4F6-49F4-BB4C-C1F32CD6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C9306-3E44-42BC-8A9D-D84FE959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63B70-4716-4D48-AFDA-19B2FC17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1FED0-6E59-41AD-B611-DD547A75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C367F-899D-420C-8813-AECC8630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E6ED2-8883-47D6-8E92-16586B91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B89BE-87A8-48D1-9FD3-A52FACC8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65F25-E97A-41E8-90DD-DD035641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00369-A5CA-46FD-9DB1-CD5262E2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EF49-03F0-4839-98A9-B94C9734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EB7C7-91F6-4DC0-8F5E-2C4A97A2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E6AFB-9C0C-4EA9-9492-B810A3C4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36F6B-EFF1-4247-AF6B-DDD04158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7F504-7947-4BFE-A4D6-36EA5B00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BFDAA-0DC6-4A6D-BF9E-8F8A7FB7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F3292-9DC3-4DBD-9D4B-B01951BC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4A0B9-F7EE-448B-A9B5-0DCE6E6A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8A904-5705-4A2C-A65F-898702E9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B31B3-F83D-45FA-823F-BCB75BA4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2517F-4D29-4E2E-BC6C-406BF0C6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79D2-BE4F-4270-84EF-C5C48048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DB4D9-C2BD-468D-B50D-E5A5D055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62FCC-D1F8-487C-8C57-C753634A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BD71D-2C33-4ABC-9542-AC42B760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F07-8A35-4D4B-AFF0-9BF4F461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05B-1642-4458-87B1-B5D39ADA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43F0-34B1-4338-A5FE-D70DFCE3BFB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BEB3-97D5-42E5-B515-BD4FF56CD4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82D4-79E1-4E47-948D-5F49F4E0B46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2D02-9A6B-49EF-87B8-F5277D2DFE3C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1DD1-94E3-482A-8205-FA338DB159F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AABB-D000-4C24-8412-BF8DA32A99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Homer_British_Museum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6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Medium"/>
              </a:rPr>
              <a:t>EXTENDED ESSAY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50920" y="522936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4000 WORD INDEPENDENT RESEARCH PROJECT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2011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468360" y="260280"/>
            <a:ext cx="3009960" cy="3889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5219640" y="1341360"/>
            <a:ext cx="3313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WHAT IS AN EE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Approximately 40-60 hours of work over a nine month period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The EE, TOK and CAS combined form the core of the IB Diploma programme</a:t>
            </a:r>
            <a:r>
              <a:rPr b="1" lang="en-GB" sz="1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5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950080"/>
            <a:ext cx="701640" cy="907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EE REQUIREMENT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No EE = NO DIPLOMA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Each student will have an EE supervisor – this is a member of teaching staff at the BIS-V secondary campus (see table attached)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A language A1/B EE must be submitted in that language. All other EE’s must be submitted in English, French or Spanish only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9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ranklin Gothic Medium"/>
              </a:rPr>
              <a:t>EE </a:t>
            </a:r>
            <a:r>
              <a:rPr b="1" lang="en-GB" sz="3600" spc="-1" strike="noStrike">
                <a:solidFill>
                  <a:srgbClr val="000000"/>
                </a:solidFill>
                <a:latin typeface="Franklin Gothic Medium"/>
              </a:rPr>
              <a:t>REQUIREMENTS</a:t>
            </a:r>
            <a:r>
              <a:rPr b="1" lang="en-GB" sz="4000" spc="-1" strike="noStrike">
                <a:solidFill>
                  <a:srgbClr val="000000"/>
                </a:solidFill>
                <a:latin typeface="Franklin Gothic Medium"/>
              </a:rPr>
              <a:t>: ACADEMIC HONESTY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5200" y="1484280"/>
            <a:ext cx="885636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1" i="1" lang="en-GB" sz="2800" spc="-1" strike="noStrike">
                <a:solidFill>
                  <a:srgbClr val="000000"/>
                </a:solidFill>
                <a:latin typeface="Franklin Gothic Book"/>
              </a:rPr>
              <a:t>Students are responsible for ensuring that his or her EE is authentic, with the work of others fully and correctly acknowledged” </a:t>
            </a:r>
            <a:r>
              <a:rPr b="1" i="1" lang="en-GB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i="1" lang="en-GB" sz="1400" spc="-1" strike="noStrike">
                <a:solidFill>
                  <a:srgbClr val="000000"/>
                </a:solidFill>
                <a:latin typeface="Franklin Gothic Book"/>
              </a:rPr>
              <a:t>(IBO EE handbook 2009)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Students will be taught how to research and reference their work in a number of sessions run by  Mr. Jacques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3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ASSESSMENT GRADES FOR EE</a:t>
            </a: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258920" y="1600200"/>
          <a:ext cx="7427880" cy="4525920"/>
        </p:xfrm>
        <a:graphic>
          <a:graphicData uri="http://schemas.openxmlformats.org/drawingml/2006/table">
            <a:tbl>
              <a:tblPr/>
              <a:tblGrid>
                <a:gridCol w="2239920"/>
                <a:gridCol w="2239920"/>
                <a:gridCol w="2948040"/>
              </a:tblGrid>
              <a:tr h="112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 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ment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oc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isfact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-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-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8" name="Picture 120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21" descr="TriWorldSchool2Colourlarge"/>
          <p:cNvPicPr/>
          <p:nvPr/>
        </p:nvPicPr>
        <p:blipFill>
          <a:blip r:embed="rId2"/>
          <a:stretch/>
        </p:blipFill>
        <p:spPr>
          <a:xfrm>
            <a:off x="7956720" y="189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EE SUBJECTS AVAILABLE AT BI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1844640"/>
            <a:ext cx="90360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All subjects that are available for study are also available for an extended essay, except ab initio subjects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2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CHOICE OF SUBJECT</a:t>
            </a: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803160" y="17733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Choose your subject area before you choose a topic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You should have a keen interest in the subject that you choose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6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CHOICE OF TOPIC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Choose a topic within a subject that is interesting and challenging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It should be limited in scope and sufficiently narrow to allow examination of the issue or problem in depth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It should allow you to generate information/data for analysis and evaluation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0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RESEARCH QUES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Need to formulate a narrow, focused and specific research question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It can be a question, or a hypothesis. This will form the title of your EE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You must refer to your EE question throughout the EE. You must aim to answer the EE question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4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OVERALL APPROACH TO THE EE: WHERE TO STAR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19700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HOD talks next Tuesday – 7 February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Training in citation and referencing (Mr Jacques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Select subject / topic / supervisor/ obtain subject EE guid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Training in researching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Complete extended essay study pla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Carry out necessary research / write EE / meet with supervisor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8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Franklin Gothic Medium"/>
              </a:rPr>
              <a:t>EXTENDED ESSAY STUDY PLA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This needs to be completed by Friday 15</a:t>
            </a:r>
            <a:r>
              <a:rPr b="1" lang="en-GB" sz="2800" spc="-1" strike="noStrike" baseline="30000">
                <a:solidFill>
                  <a:srgbClr val="000000"/>
                </a:solidFill>
                <a:latin typeface="Franklin Gothic Book"/>
              </a:rPr>
              <a:t>th</a:t>
            </a: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 of June at the latest…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22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ranklin Gothic Medium"/>
              </a:rPr>
              <a:t>WHAT PICTURE COMES TO MIND WHEN YOU THINK OF THOSE TWO WORDS…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 rot="19140000">
            <a:off x="1577160" y="2715840"/>
            <a:ext cx="651060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Franklin Gothic Book"/>
                <a:ea typeface="Tunga"/>
              </a:rPr>
              <a:t>EXTENDED ESSAY?</a:t>
            </a:r>
            <a:endParaRPr b="1" lang="en-US" sz="6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ranklin Gothic Medium"/>
              </a:rPr>
              <a:t>WRITING THE EE: REQUIRED ELEMENTS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19000" y="148428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Title page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Abstract (300 words)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Contents page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Introduction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Body/methods/findings/results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Conclusion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Illustrations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Reference and bibliography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Appendices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Franklin Gothic Book"/>
              </a:rPr>
              <a:t>(please refer to the EE handbook)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26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EE DO’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Be familiar with the EE assessment criteria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83480" indent="-483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Read samples of good EE’s from previous years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83480" indent="-483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Consult your resources before constructing a research question – you can always narrow it down or change it as you progress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83480" indent="-483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Start the process straight away – BE ORGANISED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83480" indent="-483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Plan the structure of your essay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83480" indent="-483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MEET ALL DEADLINES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83480" indent="-483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Write the abstract at the end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30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EE DON’T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Try to answer a broad research question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73040" indent="-473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Include materials that are not directly relevant to the research question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73040" indent="-473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Use description only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73040" indent="-473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Forget to analyse and evaluate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73040" indent="-473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Forget to use evidence to support your argument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73040" indent="-473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Plagiarize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73040" indent="-473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Cite sources that are not used or forget to cite sources that are used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34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SUPERVISOR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13960" y="1125360"/>
            <a:ext cx="75214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Franklin Gothic Book"/>
              </a:rPr>
              <a:t>Provides advice/guidance in how to undertake research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Franklin Gothic Book"/>
              </a:rPr>
              <a:t>Helps to formulate the research question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Franklin Gothic Book"/>
              </a:rPr>
              <a:t>Reads and comments on the first draft (does not edit it)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Franklin Gothic Book"/>
              </a:rPr>
              <a:t>Support the student in the research process and monitors progress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Franklin Gothic Book"/>
              </a:rPr>
              <a:t>Checks that the work is authentic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Franklin Gothic Book"/>
              </a:rPr>
              <a:t>Marks the final draft and gives a predicted grade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38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SUPERVISOR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Spends a maximum of 5 hours (over the nine month period) with their EE student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Gives advice on how to access appropriate resources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Gives advice on how to write each section of the EE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Conducts a short interview with the student when the EE is over (the viva voce)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42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EE DEADLIN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9640" y="342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Franklin Gothic Book"/>
              </a:rPr>
              <a:t>Friday 2</a:t>
            </a:r>
            <a:r>
              <a:rPr b="1" lang="en-GB" sz="4400" spc="-1" strike="noStrike" baseline="30000">
                <a:solidFill>
                  <a:srgbClr val="000000"/>
                </a:solidFill>
                <a:latin typeface="Franklin Gothic Book"/>
              </a:rPr>
              <a:t>nd</a:t>
            </a:r>
            <a:r>
              <a:rPr b="1" lang="en-GB" sz="4400" spc="-1" strike="noStrike">
                <a:solidFill>
                  <a:srgbClr val="000000"/>
                </a:solidFill>
                <a:latin typeface="Franklin Gothic Book"/>
              </a:rPr>
              <a:t> of November</a:t>
            </a: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68360" y="1916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Franklin Gothic Medium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6" name="Picture 5" descr="132425778_714cd39f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9" name="Picture 5" descr="Frightening-Car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2" name="Picture 5" descr="achieving-goals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THE GOOD NEW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21880" y="1100160"/>
            <a:ext cx="8070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ranklin Gothic Book"/>
              </a:rPr>
              <a:t>Doing well in your extended essay can give you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extra IB points</a:t>
            </a:r>
            <a:r>
              <a:rPr b="1" lang="en-GB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ranklin Gothic Book"/>
              </a:rPr>
              <a:t>It is </a:t>
            </a:r>
            <a:r>
              <a:rPr b="1" i="1" lang="en-GB" sz="3200" spc="-1" strike="noStrike">
                <a:solidFill>
                  <a:srgbClr val="000000"/>
                </a:solidFill>
                <a:latin typeface="Franklin Gothic Book"/>
              </a:rPr>
              <a:t>really</a:t>
            </a:r>
            <a:r>
              <a:rPr b="1" lang="en-GB" sz="3200" spc="-1" strike="noStrike">
                <a:solidFill>
                  <a:srgbClr val="000000"/>
                </a:solidFill>
                <a:latin typeface="Franklin Gothic Book"/>
              </a:rPr>
              <a:t> difficult to fail an extended essay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Medium"/>
              </a:rPr>
              <a:t>EVEN THIS PERSON COULD PASS AN EE. PROBABLY</a:t>
            </a:r>
            <a:r>
              <a:rPr b="0" lang="en-GB" sz="4000" spc="-1" strike="noStrike">
                <a:solidFill>
                  <a:srgbClr val="000000"/>
                </a:solidFill>
                <a:latin typeface="Franklin Gothic Medium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6" name="Picture 5" descr="Stupid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Homer British Museu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HomerSimpson38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ranklin Gothic Medium"/>
              </a:rPr>
              <a:t>WHAT IS AN EXTENDED ESSAY (EE)?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8000" y="1413000"/>
            <a:ext cx="90360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4000 word independent research project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Gives students the opportunity to investigate a topic of special interest to them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Provides students with the opportunity to develop independent research and writing skills in preparation for university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1" name="Picture 4" descr="TriWorldSchool2Colourlarge"/>
          <p:cNvPicPr/>
          <p:nvPr/>
        </p:nvPicPr>
        <p:blipFill>
          <a:blip r:embed="rId1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British International School (Approval)"/>
          <p:cNvPicPr/>
          <p:nvPr/>
        </p:nvPicPr>
        <p:blipFill>
          <a:blip r:embed="rId2"/>
          <a:stretch/>
        </p:blipFill>
        <p:spPr>
          <a:xfrm>
            <a:off x="0" y="5848200"/>
            <a:ext cx="7812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3:13:22Z</dcterms:created>
  <dc:creator>AnnaBerney</dc:creator>
  <dc:description/>
  <dc:language>en-US</dc:language>
  <cp:lastModifiedBy>Richard Arch</cp:lastModifiedBy>
  <dcterms:modified xsi:type="dcterms:W3CDTF">2012-01-19T02:01:27Z</dcterms:modified>
  <cp:revision>13</cp:revision>
  <dc:subject/>
  <dc:title>Extended Essay</dc:title>
</cp:coreProperties>
</file>